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163-5CCE-4CCB-B5D8-55CEF317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CDC-5B54-4E49-9C97-BF10C18C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9E3-9E17-4D62-B34A-EFCA3785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C12-5ECC-4C26-8656-A56DEA0F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310-8495-449A-B098-A7ED0C50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339-54F7-4649-806C-0ED22C4A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C31-3FE3-4E89-8E50-C377CC22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7B4-7679-418C-93BB-9BC7AB0C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11E-BBF4-4BF6-AA07-1463362A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2F6-D419-4C9E-ABA1-2CFDEAF9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B73-5DE6-4231-8D87-C1A74393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2FD-C610-430E-B948-C807F17C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0A1C-2EF9-44EB-955F-DB8B5CCEED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500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destina"/>
              </a:rPr>
              <a:t>Пятнадцатое янва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destina"/>
              </a:rPr>
              <a:t>Класс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1\Desktop\Урок\6583673e0795cd9cd154283af1f4dd54_i-14547.jpg"/>
          <p:cNvPicPr/>
          <p:nvPr/>
        </p:nvPicPr>
        <p:blipFill>
          <a:blip r:embed="rId1"/>
          <a:srcRect l="50003" t="25004" r="10003" b="0"/>
          <a:stretch/>
        </p:blipFill>
        <p:spPr>
          <a:xfrm>
            <a:off x="0" y="1928880"/>
            <a:ext cx="4052880" cy="4929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29040" y="107172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destina"/>
              </a:rPr>
              <a:t>Где раки зимую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>
            <a:lum contrast="10000"/>
          </a:blip>
          <a:srcRect l="12628" t="0" r="12703" b="0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27815" t="24626" r="25154" b="31181"/>
          <a:stretch/>
        </p:blipFill>
        <p:spPr>
          <a:xfrm>
            <a:off x="-9360" y="0"/>
            <a:ext cx="919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1</cp:lastModifiedBy>
  <dcterms:modified xsi:type="dcterms:W3CDTF">2017-01-11T15:16:06Z</dcterms:modified>
  <cp:revision>9</cp:revision>
  <dc:subject/>
  <dc:title>Презентация PowerPoint</dc:title>
</cp:coreProperties>
</file>